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255-C75C-45D0-9FBC-89EE32A9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795-0F6D-4247-A25D-D5D89035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D27-D392-4964-83D7-36BE733E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0AD-CB79-4300-A307-D4E3CF09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BF58-82F4-4F48-AD00-57F87EE6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80E9-7844-44D4-8392-382F3587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CD2C-7B41-40E2-95DC-A187DED5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0093-44F8-45D1-87E6-CC3DA0E6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D0F2-FA90-4CBF-A494-80C07CD6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68D-85FC-4156-8598-867F922F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40C7-9EDD-4459-946C-C71F3C27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7B8-9325-4ED6-8D22-FB618E01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5841-7303-4911-811C-37E5BF4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FE6E-4164-4885-B2C0-B089BCE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9EAE-0494-4AD8-893F-314413B5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794A-5220-41E4-A9D7-A571F84E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7FE9-3554-4EF1-BD5A-59AB160D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964-A179-44D0-B256-FE329E5D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E0B-E6B4-4234-B567-02DB1CD4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8A5-20CC-4CEF-9658-8063CBF8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3FC-5CD3-409F-AB74-302DED15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E31-98C0-4CE3-9B53-B908DB0A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FF33-F796-4E5E-ACF9-C1F393CB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B99-DD8C-4C45-895E-C9258CEA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903-03A4-4DA0-AC62-20BADD77AEBC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9A33-F9F9-4DBE-84BD-89D0589D7705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90512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3703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4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133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067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443400" cy="4648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505320" y="1523880"/>
            <a:ext cx="2361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pin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cuadr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escul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ural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dibuj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onumen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09680" cy="1741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2546640" cy="1752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2330640" cy="1962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16002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7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1523880" cy="1109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352680" y="2514600"/>
            <a:ext cx="1600200" cy="1103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838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GENER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348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614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775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0292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92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16673" b="0"/>
          <a:stretch/>
        </p:blipFill>
        <p:spPr>
          <a:xfrm>
            <a:off x="4572000" y="914400"/>
            <a:ext cx="2838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1672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6197400" cy="3319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182880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544920" cy="403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Qué tipo de arte es?  ¿De qué género es?  ¿Cómo es?  ¿Qué colores ves en la obra?  ¿Qué opinas de esta obra </a:t>
            </a:r>
            <a:r>
              <a:rPr b="0" i="1" lang="en-US" sz="2400" spc="-1" strike="noStrike">
                <a:solidFill>
                  <a:srgbClr val="41280d"/>
                </a:solidFill>
                <a:latin typeface="Verdana"/>
              </a:rPr>
              <a:t>(work)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9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029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262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867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867280" y="106668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59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69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401292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19920" y="121932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Faculty02</cp:lastModifiedBy>
  <dcterms:modified xsi:type="dcterms:W3CDTF">2009-02-18T14:59:04Z</dcterms:modified>
  <cp:revision>8</cp:revision>
  <dc:subject/>
  <dc:title>PowerPoint Presentation</dc:title>
</cp:coreProperties>
</file>